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2.png" ContentType="image/png"/>
  <Override PartName="/ppt/media/image19.gif" ContentType="image/gif"/>
  <Override PartName="/ppt/media/image21.png" ContentType="image/png"/>
  <Override PartName="/ppt/media/image18.gif" ContentType="image/gif"/>
  <Override PartName="/ppt/media/image23.png" ContentType="image/png"/>
  <Override PartName="/ppt/media/image20.gif" ContentType="image/gif"/>
  <Override PartName="/ppt/media/image16.jpeg" ContentType="image/jpeg"/>
  <Override PartName="/ppt/media/image24.jpeg" ContentType="image/jpeg"/>
  <Override PartName="/ppt/media/image15.png" ContentType="image/png"/>
  <Override PartName="/ppt/media/image1.wmf" ContentType="image/x-wmf"/>
  <Override PartName="/ppt/media/image9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4CA1-8828-4015-BF5A-E21C7294A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9F63-52C8-45C2-80FC-4CAFAAFB7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CAFC-CA52-4021-9CB5-4C1762EA8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C11B-B131-4F0A-862A-1C9CF1E6F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223B-CB92-4B23-A2AB-3FA66584F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2DEA-770A-4FCB-9E20-E708C9359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FD22-3648-46A1-A787-F0E04C5F7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0243-CB24-4D2A-BEC9-1101319F4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6888-665E-47A5-B75E-D963BC104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3D3F-0B2A-487C-96F4-DB53CAB5B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09BA-E870-446D-BA76-EFC700CFE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E360-D472-4BEA-BA46-10BBEB94B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A429-8B81-41AE-94E7-9EB24FDCE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3EE9-C4B9-4B00-B787-2A169CBC3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789C-BF23-43AB-AFB2-29AFE0217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2BC3-7353-4EE7-A8EA-845FAE956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7A0C-0612-4EC2-A32C-BCAD4FEDC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9DBF-5C0B-4139-A631-0A54D9C5D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0E3D-0C75-4A9C-8CBE-89E291C44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7714-AC64-4509-B7FC-E7FEBF4E9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27A5-F748-4714-A0A6-0638E61F9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4C47-6D62-4E6C-8C98-C13164509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201-D0FA-4C01-92CC-96A61B9F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CD7A-416F-43FF-A634-B619DE36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E20-86B1-4BB9-893A-1FF3A103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415-6CDB-4676-9DFA-D7D4B9D5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06D2-0552-4FA5-9806-5F977B3A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A149-85E9-4869-8F14-0ECC45D9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B014-801F-45F1-B5AD-857B166F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82DF-97EE-49C8-B043-E7D69DDA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11E-4755-4B9F-8512-53952115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232C-1DDC-4AF7-9425-BCEBC9C2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9E9E-E42A-496A-B36C-9DE9A422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2B0D-6A41-4E78-BC23-3B4B233A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dbff"/>
            </a:gs>
            <a:gs pos="100000">
              <a:srgbClr val="0e5d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E3D5-351B-4A65-91D7-82EBF0475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vescience.com/37183-the-earth-harp-making-architecture-and-nature-into-an-instrument-video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youtube.com/watch?v=EXxcwFfovkc" TargetMode="External"/><Relationship Id="rId3" Type="http://schemas.openxmlformats.org/officeDocument/2006/relationships/hyperlink" Target="http://www.youtube.com/watch?v=imoxDcn2Sgo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hyperlink" Target="http://youtu.be/Y5KaeCZ_AaY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371600" y="4038480"/>
            <a:ext cx="6350040" cy="2540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304920" y="838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ARACTERISTICS OF WAV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0" y="2895480"/>
            <a:ext cx="9144000" cy="764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pter 15, Section 2, pp 514-5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Wave_period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.  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295280" y="38088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0f52"/>
                </a:solidFill>
                <a:latin typeface="Arial"/>
              </a:rPr>
              <a:t>FREQUENC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57200" y="1371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complete waves per unit of time (waves/seco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57200" y="26668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= _________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80880" y="426708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es one color of ______ from another, or whether or not a _______ is aud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981080" y="2666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52"/>
                </a:solidFill>
                <a:latin typeface="Arial"/>
              </a:rPr>
              <a:t>Hertz (H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5562720" y="4724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52"/>
                </a:solidFill>
                <a:latin typeface="Arial"/>
              </a:rPr>
              <a:t>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5410080" y="42670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5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f0f52"/>
                </a:solidFill>
                <a:latin typeface="Arial"/>
              </a:rPr>
              <a:t>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457200" y="35053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Hz = 1 vibration / 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u10l2b4"/>
          <p:cNvPicPr/>
          <p:nvPr/>
        </p:nvPicPr>
        <p:blipFill>
          <a:blip r:embed="rId1"/>
          <a:stretch/>
        </p:blipFill>
        <p:spPr>
          <a:xfrm>
            <a:off x="5334120" y="2057400"/>
            <a:ext cx="3504960" cy="191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Rectangle 1"/>
          <p:cNvSpPr/>
          <p:nvPr/>
        </p:nvSpPr>
        <p:spPr>
          <a:xfrm>
            <a:off x="2819520" y="548640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y 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 (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quency vs.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95280" y="1006560"/>
          <a:ext cx="6858000" cy="31240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</a:t>
                      </a: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fte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omething happ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im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t takes something to happen (start to finis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at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im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s/sec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s/cyc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Rectangle 1"/>
          <p:cNvSpPr/>
          <p:nvPr/>
        </p:nvSpPr>
        <p:spPr>
          <a:xfrm>
            <a:off x="1143000" y="42670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f the woodpecker drums upon a tree 2 times in one second, the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equency is 2 H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Each drum must endure for one-half a second, so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iod is 0.5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248520" y="4343400"/>
            <a:ext cx="1436400" cy="226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75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ating along…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6360" y="1295280"/>
            <a:ext cx="705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you are floating on an inner tube in the ocean. A wave crest passes the inner tube every 2 seco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otal time for one complete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/oscillation to occ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: f = 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      f =  1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   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5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5"/>
          <p:cNvSpPr/>
          <p:nvPr/>
        </p:nvSpPr>
        <p:spPr>
          <a:xfrm>
            <a:off x="43434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685800" y="4876920"/>
            <a:ext cx="1905120" cy="533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2438280" cy="443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visible_spectrum_waves_big"/>
          <p:cNvPicPr/>
          <p:nvPr/>
        </p:nvPicPr>
        <p:blipFill>
          <a:blip r:embed="rId1"/>
          <a:stretch/>
        </p:blipFill>
        <p:spPr>
          <a:xfrm>
            <a:off x="762120" y="2666880"/>
            <a:ext cx="7619760" cy="42325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152280" y="22860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colo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52280" y="91440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same medium, light travels at the _____ speed (300,000,000 m/s or 186,000 mph).  What makes the colors different?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7620120" y="9144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52"/>
                </a:solidFill>
                <a:latin typeface="Arial"/>
              </a:rPr>
              <a:t>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6477120" y="182880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52"/>
                </a:solidFill>
                <a:latin typeface="Arial"/>
              </a:rPr>
              <a:t>frequenci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frequency_tones"/>
          <p:cNvPicPr/>
          <p:nvPr/>
        </p:nvPicPr>
        <p:blipFill>
          <a:blip r:embed="rId1"/>
          <a:stretch/>
        </p:blipFill>
        <p:spPr>
          <a:xfrm>
            <a:off x="4648320" y="3200400"/>
            <a:ext cx="4343400" cy="3470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609480" y="25909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52"/>
                </a:solidFill>
                <a:latin typeface="Arial"/>
              </a:rPr>
              <a:t>the frequenci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152280" y="3733920"/>
            <a:ext cx="426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Humans hear from 20-20,000 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quito ring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533520" y="1600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52"/>
                </a:solidFill>
                <a:latin typeface="Arial"/>
              </a:rPr>
              <a:t>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sound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same medium, sound travels at the ______ speed.  What makes differently pitched (high/low) sounds?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freq-wavelength"/>
          <p:cNvPicPr/>
          <p:nvPr/>
        </p:nvPicPr>
        <p:blipFill>
          <a:blip r:embed="rId1"/>
          <a:stretch/>
        </p:blipFill>
        <p:spPr>
          <a:xfrm>
            <a:off x="3962520" y="380880"/>
            <a:ext cx="4952880" cy="28908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228600" y="304920"/>
            <a:ext cx="388620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wo waves moving at the SAME speed, as </a:t>
            </a:r>
            <a:r>
              <a:rPr b="0" lang="en-US" sz="4400" spc="-1" strike="noStrike">
                <a:solidFill>
                  <a:srgbClr val="1f0f52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REASES, frequency 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04920" y="28954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656"/>
                </a:solidFill>
                <a:latin typeface="Arial"/>
              </a:rPr>
              <a:t>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52280" y="388620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, as the period of a wave decreases, the frequency _____________ (INVERSE relation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4952880" y="44197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656"/>
                </a:solidFill>
                <a:latin typeface="Arial"/>
              </a:rPr>
              <a:t>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3298680" y="60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20018610"/>
          <p:cNvPicPr/>
          <p:nvPr/>
        </p:nvPicPr>
        <p:blipFill>
          <a:blip r:embed="rId1"/>
          <a:stretch/>
        </p:blipFill>
        <p:spPr>
          <a:xfrm>
            <a:off x="0" y="3502080"/>
            <a:ext cx="9144000" cy="33559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228600" y="22860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ve Spe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0" y="121932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eed of a wave depends on the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7162920" y="12193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c5d"/>
                </a:solidFill>
                <a:latin typeface="Arial"/>
              </a:rPr>
              <a:t>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0" y="1981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given medium, the speed of a wave is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28600" y="2438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c5d"/>
                </a:solidFill>
                <a:latin typeface="Arial"/>
              </a:rPr>
              <a:t>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3276720" y="3124080"/>
            <a:ext cx="22096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00 m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6477120" y="3124080"/>
            <a:ext cx="182880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40 m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304920" y="3124080"/>
            <a:ext cx="22096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,800 m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1676520" y="6278400"/>
            <a:ext cx="58672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SPEED DIFF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peed of a wave is equal to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veleng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ided by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erio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requenc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ied by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veleng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memb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eed of a moving object is found by dividing the ________ the object travels by the ____ it takes the object to travel that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 = distance /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 = d /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981160" y="304812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1931400" y="3581280"/>
            <a:ext cx="10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wave speed = wavelength ÷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ave speed is th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invers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of frequ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ividing by the period is equivalent to multiplying by the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eed of a w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s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calcula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 speed = frequency × wave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1600200" y="6094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v = </a:t>
            </a: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048120" y="52578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v = f x 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Isosceles Triangle 1"/>
          <p:cNvSpPr/>
          <p:nvPr/>
        </p:nvSpPr>
        <p:spPr>
          <a:xfrm>
            <a:off x="4343400" y="762120"/>
            <a:ext cx="1676520" cy="1295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8"/>
          <p:cNvSpPr/>
          <p:nvPr/>
        </p:nvSpPr>
        <p:spPr>
          <a:xfrm>
            <a:off x="4762440" y="140976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0"/>
          <p:cNvSpPr/>
          <p:nvPr/>
        </p:nvSpPr>
        <p:spPr>
          <a:xfrm flipV="1">
            <a:off x="5181480" y="1371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5"/>
          <p:cNvSpPr/>
          <p:nvPr/>
        </p:nvSpPr>
        <p:spPr>
          <a:xfrm>
            <a:off x="45720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7"/>
          <p:cNvSpPr/>
          <p:nvPr/>
        </p:nvSpPr>
        <p:spPr>
          <a:xfrm>
            <a:off x="4876920" y="9144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8"/>
          <p:cNvSpPr/>
          <p:nvPr/>
        </p:nvSpPr>
        <p:spPr>
          <a:xfrm>
            <a:off x="51814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Isosceles Triangle 20"/>
          <p:cNvSpPr/>
          <p:nvPr/>
        </p:nvSpPr>
        <p:spPr>
          <a:xfrm>
            <a:off x="5638680" y="5334120"/>
            <a:ext cx="1676520" cy="1143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22"/>
          <p:cNvSpPr/>
          <p:nvPr/>
        </p:nvSpPr>
        <p:spPr>
          <a:xfrm>
            <a:off x="6058080" y="590544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24"/>
          <p:cNvSpPr/>
          <p:nvPr/>
        </p:nvSpPr>
        <p:spPr>
          <a:xfrm>
            <a:off x="647712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7"/>
          <p:cNvSpPr/>
          <p:nvPr/>
        </p:nvSpPr>
        <p:spPr>
          <a:xfrm>
            <a:off x="56386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9"/>
          <p:cNvSpPr/>
          <p:nvPr/>
        </p:nvSpPr>
        <p:spPr>
          <a:xfrm>
            <a:off x="6019920" y="5410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0"/>
          <p:cNvSpPr/>
          <p:nvPr/>
        </p:nvSpPr>
        <p:spPr>
          <a:xfrm>
            <a:off x="6477120" y="5943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 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3962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s the amount of __________ carried by the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762120" y="49528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447920" y="5335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b1a08"/>
                </a:solidFill>
                <a:latin typeface="Arial"/>
              </a:rPr>
              <a:t>AMPLIT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228600" y="15238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ximum movement of a wave from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304920" y="274320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d from rest to ________ (top of the          wave) or rest to __________ (botto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533520" y="1981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0f52"/>
                </a:solidFill>
                <a:latin typeface="Arial"/>
              </a:rPr>
              <a:t>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724280" y="26668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0f52"/>
                </a:solidFill>
                <a:latin typeface="Arial"/>
              </a:rPr>
              <a:t>C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3352680" y="3200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0f52"/>
                </a:solidFill>
                <a:latin typeface="Arial"/>
              </a:rPr>
              <a:t>TR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5562720" y="38862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0f52"/>
                </a:solidFill>
                <a:latin typeface="Arial"/>
              </a:rPr>
              <a:t>ENER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762120" y="502920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A sound wave with more energy and greater amplitude is 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4572000" y="5486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656"/>
                </a:solidFill>
                <a:latin typeface="Arial"/>
              </a:rPr>
              <a:t>LOU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6183720" y="60948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e3697"/>
                </a:solidFill>
                <a:uFillTx/>
                <a:latin typeface="Arial"/>
                <a:hlinkClick r:id="rId1"/>
              </a:rPr>
              <a:t>Earth H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ing of a piano that produces the note middle C vibrates with a frequency of ____ Hz. If the sound waves produced by this string have a wavelength in air of ____ m, what is the speed of the sound wa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know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requency, 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262 H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ave speed, v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? m/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avelength, λ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1.30 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762120" y="18288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6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691920" y="281952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33520" y="3124080"/>
            <a:ext cx="77724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= 262 Hz x 1.30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= 341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2895480" y="19051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v = f x 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380880" y="8380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: v= ?        f= 262 Hz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λ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0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457200" y="4800600"/>
            <a:ext cx="2819520" cy="99072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298680" y="60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304920" y="228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Doppler Effe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0" y="10666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served change in the ____________ of a wave when the source of the wave or the observer is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286000" y="19810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257800" y="10666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9" descr="doppler_rest"/>
          <p:cNvPicPr/>
          <p:nvPr/>
        </p:nvPicPr>
        <p:blipFill>
          <a:blip r:embed="rId1"/>
          <a:stretch/>
        </p:blipFill>
        <p:spPr>
          <a:xfrm>
            <a:off x="1981080" y="285768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298680" y="60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doppler_a_200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oppler_t_200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298680" y="60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294012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"/>
          <p:cNvSpPr/>
          <p:nvPr/>
        </p:nvSpPr>
        <p:spPr>
          <a:xfrm>
            <a:off x="1828800" y="5335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ae3697"/>
                </a:solidFill>
                <a:uFillTx/>
                <a:latin typeface="Arial"/>
                <a:hlinkClick r:id="rId2"/>
              </a:rPr>
              <a:t>Train Horn Dopp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2590920" y="5410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ae3697"/>
                </a:solidFill>
                <a:uFillTx/>
                <a:latin typeface="Arial"/>
                <a:hlinkClick r:id="rId3"/>
              </a:rPr>
              <a:t>Fire Engine Siren Dopp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298680" y="60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2819520" y="5638680"/>
            <a:ext cx="3352680" cy="764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ESH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819520" y="380880"/>
            <a:ext cx="3047760" cy="76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SH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800px-Redshift_blueshift"/>
          <p:cNvPicPr/>
          <p:nvPr/>
        </p:nvPicPr>
        <p:blipFill>
          <a:blip r:embed="rId1"/>
          <a:stretch/>
        </p:blipFill>
        <p:spPr>
          <a:xfrm>
            <a:off x="228600" y="762120"/>
            <a:ext cx="830592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doppler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2971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redBlueShift"/>
          <p:cNvPicPr/>
          <p:nvPr/>
        </p:nvPicPr>
        <p:blipFill>
          <a:blip r:embed="rId2"/>
          <a:stretch/>
        </p:blipFill>
        <p:spPr>
          <a:xfrm>
            <a:off x="1219320" y="3581280"/>
            <a:ext cx="6476760" cy="23828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3124080" y="2971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e3697"/>
                </a:solidFill>
                <a:uFillTx/>
                <a:latin typeface="Arial"/>
                <a:hlinkClick r:id="rId3"/>
              </a:rPr>
              <a:t>Doppler Big B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FG03_14"/>
          <p:cNvPicPr/>
          <p:nvPr/>
        </p:nvPicPr>
        <p:blipFill>
          <a:blip r:embed="rId1"/>
          <a:stretch/>
        </p:blipFill>
        <p:spPr>
          <a:xfrm>
            <a:off x="228600" y="-3240"/>
            <a:ext cx="876312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wave speed practic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295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average wavelength in a series of ocean waves is _____ m. A wave crest arrives at the shore on average every ____ s, so the frequency is ______ Hz. What is the averag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w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828800" y="3886200"/>
            <a:ext cx="5334120" cy="265572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3657600" y="17524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5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5"/>
          <p:cNvSpPr/>
          <p:nvPr/>
        </p:nvSpPr>
        <p:spPr>
          <a:xfrm>
            <a:off x="762120" y="27432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5715000" y="2743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6858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Green light has a wavelength of __________ m. The speed of light is _________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/s. Calculat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eque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green light waves with this wavel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4753080" cy="31240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/>
          <p:cNvSpPr/>
          <p:nvPr/>
        </p:nvSpPr>
        <p:spPr>
          <a:xfrm>
            <a:off x="762120" y="838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.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762120" y="13716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amplitude"/>
          <p:cNvPicPr/>
          <p:nvPr/>
        </p:nvPicPr>
        <p:blipFill>
          <a:blip r:embed="rId1"/>
          <a:stretch/>
        </p:blipFill>
        <p:spPr>
          <a:xfrm>
            <a:off x="609480" y="0"/>
            <a:ext cx="8001000" cy="6840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 rot="16200000">
            <a:off x="214560" y="3823920"/>
            <a:ext cx="259056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PL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85800" y="3808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 speed of sound in air is about _____ m/s. What i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sound wave with a frequency of _____ Hz (on a piano, the A below middle C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330800" cy="34164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"/>
          <p:cNvSpPr/>
          <p:nvPr/>
        </p:nvSpPr>
        <p:spPr>
          <a:xfrm>
            <a:off x="838080" y="8380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6705720" y="1295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380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Calculate the frequency of microwaves that have a wavelength of _______ m and a speed of _________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/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" descr=""/>
          <p:cNvPicPr/>
          <p:nvPr/>
        </p:nvPicPr>
        <p:blipFill>
          <a:blip r:embed="rId1"/>
          <a:stretch/>
        </p:blipFill>
        <p:spPr>
          <a:xfrm>
            <a:off x="2438280" y="2514600"/>
            <a:ext cx="4102200" cy="34099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5638680" y="8380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.008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4"/>
          <p:cNvSpPr/>
          <p:nvPr/>
        </p:nvSpPr>
        <p:spPr>
          <a:xfrm>
            <a:off x="2819520" y="1295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609480" y="48769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seismograph"/>
          <p:cNvPicPr/>
          <p:nvPr/>
        </p:nvPicPr>
        <p:blipFill>
          <a:blip r:embed="rId1"/>
          <a:stretch/>
        </p:blipFill>
        <p:spPr>
          <a:xfrm>
            <a:off x="609480" y="3276720"/>
            <a:ext cx="4267440" cy="3398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5"/>
          <p:cNvSpPr/>
          <p:nvPr/>
        </p:nvSpPr>
        <p:spPr>
          <a:xfrm>
            <a:off x="304920" y="380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nsity of an earthquake is determined by the _____________ of the original disturbance and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4267080" y="8380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0f52"/>
                </a:solidFill>
                <a:latin typeface="Arial"/>
              </a:rPr>
              <a:t>AMPLIT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8" descr="seismometer"/>
          <p:cNvPicPr/>
          <p:nvPr/>
        </p:nvPicPr>
        <p:blipFill>
          <a:blip r:embed="rId2"/>
          <a:stretch/>
        </p:blipFill>
        <p:spPr>
          <a:xfrm>
            <a:off x="5784840" y="2590920"/>
            <a:ext cx="3206880" cy="41590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9"/>
          <p:cNvSpPr/>
          <p:nvPr/>
        </p:nvSpPr>
        <p:spPr>
          <a:xfrm>
            <a:off x="301320" y="1981080"/>
            <a:ext cx="626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quake energy measured by a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609480" y="25909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52"/>
                </a:solidFill>
                <a:latin typeface="Arial"/>
              </a:rPr>
              <a:t>SEISM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seismograph"/>
          <p:cNvPicPr/>
          <p:nvPr/>
        </p:nvPicPr>
        <p:blipFill>
          <a:blip r:embed="rId1"/>
          <a:srcRect l="17955" t="0" r="0" b="0"/>
          <a:stretch/>
        </p:blipFill>
        <p:spPr>
          <a:xfrm>
            <a:off x="457200" y="-31680"/>
            <a:ext cx="86868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3352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tance between two equivalent parts of a wav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from ________ to 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waveleng"/>
          <p:cNvPicPr/>
          <p:nvPr/>
        </p:nvPicPr>
        <p:blipFill>
          <a:blip r:embed="rId1"/>
          <a:stretch/>
        </p:blipFill>
        <p:spPr>
          <a:xfrm>
            <a:off x="3657600" y="3352680"/>
            <a:ext cx="5334120" cy="3330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9"/>
          <p:cNvSpPr/>
          <p:nvPr/>
        </p:nvSpPr>
        <p:spPr>
          <a:xfrm>
            <a:off x="2743200" y="2286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52"/>
                </a:solidFill>
                <a:latin typeface="Arial"/>
              </a:rPr>
              <a:t>C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457200" y="3808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1295280" y="38088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0f52"/>
                </a:solidFill>
                <a:latin typeface="Arial"/>
              </a:rPr>
              <a:t>WAVELENG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5181480" y="2286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52"/>
                </a:solidFill>
                <a:latin typeface="Arial"/>
              </a:rPr>
              <a:t>C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533520" y="3048120"/>
            <a:ext cx="335268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 = ___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reek letter _______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2743200" y="29718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0f52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533520" y="41148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52"/>
                </a:solidFill>
                <a:latin typeface="Arial"/>
              </a:rPr>
              <a:t>Lamb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609480" y="48769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=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2133720" y="4876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52"/>
                </a:solidFill>
                <a:latin typeface="Arial"/>
              </a:rPr>
              <a:t>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wavelength"/>
          <p:cNvPicPr/>
          <p:nvPr/>
        </p:nvPicPr>
        <p:blipFill>
          <a:blip r:embed="rId1"/>
          <a:stretch/>
        </p:blipFill>
        <p:spPr>
          <a:xfrm>
            <a:off x="0" y="0"/>
            <a:ext cx="9144000" cy="5537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0" y="5562720"/>
            <a:ext cx="9144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r wavelengths carry _______ energy than longer waveleng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181480" y="5562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52"/>
                </a:solidFill>
                <a:latin typeface="Arial"/>
              </a:rPr>
              <a:t>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sound_tran_long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457200" y="3808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.  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295280" y="38088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0f52"/>
                </a:solidFill>
                <a:latin typeface="Arial"/>
              </a:rPr>
              <a:t>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80880" y="137160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(seconds) required for one full _____________ of a wave to pass a certain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250px-Swimming-pool"/>
          <p:cNvPicPr/>
          <p:nvPr/>
        </p:nvPicPr>
        <p:blipFill>
          <a:blip r:embed="rId1"/>
          <a:stretch/>
        </p:blipFill>
        <p:spPr>
          <a:xfrm>
            <a:off x="4648320" y="2819520"/>
            <a:ext cx="4343400" cy="3267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380880" y="3581280"/>
            <a:ext cx="441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Time between crests in a wave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57200" y="1828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0f52"/>
                </a:solidFill>
                <a:latin typeface="Arial"/>
              </a:rPr>
              <a:t>WAVE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3:55:56Z</dcterms:created>
  <dc:creator>Sewatsky</dc:creator>
  <dc:description/>
  <dc:language>en-US</dc:language>
  <cp:lastModifiedBy>Jillian Boisse</cp:lastModifiedBy>
  <cp:lastPrinted>2008-04-30T02:37:44Z</cp:lastPrinted>
  <dcterms:modified xsi:type="dcterms:W3CDTF">2014-03-26T14:51:45Z</dcterms:modified>
  <cp:revision>41</cp:revision>
  <dc:subject/>
  <dc:title>PowerPoint Presentation</dc:title>
</cp:coreProperties>
</file>